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509-D49C-4EA5-B31D-D37FF58A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7DD-CF64-4881-8307-1FD761C9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4C4-1047-402A-A1AD-8C2A96A5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41F-6349-4086-9EC9-1E170891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EB49-C25B-41ED-845F-C332DA18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CCA8-33E7-4F48-85E8-B450FB44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E3EF-B3E6-4727-AA87-F8964495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B1E8-4E3A-4BB0-AF6E-E4B87559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65BF-6838-46EB-AFA9-C371DAE6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0D2B-91A8-45B3-99D2-2229BBC7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6658-B3A7-4AA7-B5D2-9F2B7C5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744-EF7B-4867-9D2A-99D01986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48CE-FF4B-46E8-9A3C-8B6F8A18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9AD2-4AF2-41C0-93CA-9387F61C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8BDB-F314-4E89-876E-36CC6DFA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20DC-677D-4CC8-9C63-EE81B72F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58C0-8090-440D-8D23-FEEC4569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0694-12D4-4E74-996A-D22DDF5E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8110-F069-4FE3-9D95-BC6BEE4F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9AC6F-4F69-4C80-BB03-366F14E3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6E92-887C-489F-8C26-0838A79E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48417-2345-4A19-AE62-55C6EDFE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3F7-960C-4B31-AC91-ACAC51CF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5146-3BB7-4867-95F4-79A28B8A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EE14-4CE8-429D-B0F2-1E169ACE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AD751-47BC-4546-BAB2-1DFB13CF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27FE7-BEE0-425A-BF15-FA1B1073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34BBD-CADF-4403-9BF1-B443FE9C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AFB63-6154-4762-BD92-2747E2BF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4F327-9B00-44E8-9A8D-8568FC60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5D945-8EF6-4B58-A8A0-BD2079B5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3515-0435-42A9-91B8-734E3C2B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A5D33-E7F2-4F75-8DA7-0BE2C948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DF9-8AA4-48A7-9C4F-69F03F9B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E376F-6AA6-47D9-B015-8D629B30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61E09-75C2-49E4-86BD-0D4B190D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EBD51-339A-4DED-9318-47BA16BF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F99AB-51BA-4624-9110-8E87B62A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EF9D-E8AC-4053-A8EA-9CAB84E5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D7A38-6A15-44D5-ADD8-9CE7903D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A62B3-AE21-43B1-8D98-38D509F2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CFAC3-4079-4ECB-8E5E-73D1888C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4FE6D-7622-4EBE-A54B-C82859F0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64D-11FB-408D-961F-DF637D86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834-AEC0-4321-A264-27119C62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E47-438D-4B07-9BE1-D43DC34F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569-C106-4F94-83DC-2DEE8AB3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F29-1D04-46CD-9248-FE9039C6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5844-5598-43E8-B651-634C480FF7A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8910-8B44-4059-865A-52F6C48192E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7794-AAAD-438A-A781-01DEFC9FF5C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0745-FB97-45EF-9713-AD33662755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3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2296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040" y="4419720"/>
            <a:ext cx="7543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nit Plan by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lyana A. Agosto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Niña Rose A. Aguilos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Assessment Summa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 class will engage with questions that will measure their past knowledge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re will be class discussion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Formative Evaluation will follow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Assessment Summa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 learners will be grouped accordingly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Start of group discussion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Making of model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Presentation of model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530280" y="2889360"/>
            <a:ext cx="8315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 topic looks into the levels of organization of living thing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It would help us know the different roles of each levels of organization into our live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Goal of the Stud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y will be a learner at the same time a teacher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y will be able to share some of there knowledge and apply them to the discussion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ssential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880" y="2209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Part as a Whole: What about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ssential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How important is the understanding of human anatomy and physiology into our liv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How technology can be of great help in maintaining and helping defective organs to function well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Unit Ques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6668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onstantia"/>
              </a:rPr>
              <a:t>What is the importance of each part and functions of Organ systems into our liv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Content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590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What are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-What are the different types of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What are their us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Content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are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-What are the different types of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-What are their us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is an organism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Assessment Time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280" y="1600200"/>
          <a:ext cx="8839440" cy="478944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Before Project Begin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Students work on projects and complete task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Times New Roman"/>
                        </a:rPr>
                        <a:t>After project work is completed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34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Questioning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Discussion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Unit quiz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Class grouping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Group discussion and sharing of insight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Making of their models (1 week)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Model presentation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Model rubric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4:49:12Z</dcterms:created>
  <dc:creator>USER</dc:creator>
  <dc:description/>
  <dc:language>en-US</dc:language>
  <cp:lastModifiedBy>RCJ</cp:lastModifiedBy>
  <dcterms:modified xsi:type="dcterms:W3CDTF">2010-09-20T07:23:18Z</dcterms:modified>
  <cp:revision>16</cp:revision>
  <dc:subject/>
  <dc:title>Human Anatomy and Physiology</dc:title>
</cp:coreProperties>
</file>